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D1F59-2F59-460E-A6F5-25BE3751B9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D3DD-C0F6-45B5-BBD2-DF09D4512D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eps explain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dentifies itself (login name - c), presents request id (n) and requests key and ticket for Ticket Granting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Distribution Center (KDC) generates random session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generates Ticket Granting Ticket (TGT)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t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Session key is encrypted using the client‘s private key K 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decrypts session key, uses authentification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GT to obtain service-specific ticket from T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GS delivers key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service-specific ticket {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}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authenticates itself against server with 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, which is encrypted us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c,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observation: any two communication partners use their own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96B2-2710-45A8-8698-9DE42C7DDC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dows Kerberos package, with the cooperation of Kerberos services running on a domain controller, supports version 5, revision 6, of the Kerberos protocol. This protocol is based on Internet RFC 1510 (more info on www.ietf.or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features are required at the C2 level and have been implemented within Windows OS? Some of the most important features inclu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etionary Access Control - The ability of every user on the system to decide what access other users should have to their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ject Reuse - A guarantee that one user can't recover information belonging to another user when it's no longer in use. For example, a C2 evaluated operating system must ensure that a file deleted by one user can't be recovered by an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countability - The ability for the system to uniquely identify every user on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2811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diting - The ability for the system to record what users took which a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chieve a C2 evaluation, Windows had to meet all of the C2 feature requirements. However, it actually exceeds C2 requirements in some areas. For example, Windows provides a trusted path - a way to ensure that you are communicating directly with the operating system when providing information like logon passwords - which is not a requirement for C2, but is a requirement for a higher security level, B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oxes are security-related processes and blue are the security-related databases and D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C5D0-4501-4AEE-9AF6-1555C4917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57ECE-3B3B-4A96-B2C9-E5A1E4167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762B1-ABEA-4117-9114-C99921FDF3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E1BFA-7A3D-4363-BE74-BED30B071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74F6-E420-410D-B978-857557DEE7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E271-7B81-4DBA-8CE0-97D522BA7B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1842-13FD-472B-AD2B-929EDF52C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3A6A-AE1C-4ED9-BD70-6EFBF1B73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8C136-D87C-4D81-AC63-C9046423B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6DBC-3293-4755-93B8-28AE2C172E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5E223-0626-475E-92C2-6F476F608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50127-89DF-4743-B6A9-1B19C94AA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F09-5022-452F-BEFD-6841AD80B1C2}" type="slidenum">
              <a:rPr b="0" lang="en-GB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7: Secur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Security Components and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 Logon service (Net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indows service (\Windows\System32\Netlogon.dll) that runs inside Lsass and responds to Microsoft LAN Manager 2 Windows NT (pre-Windows 2000) network logo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s handled as local logons are, by sending them to Lsass for ve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logon also has a locator service built into it for locating domain controll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2000" y="4035600"/>
            <a:ext cx="129564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95040" y="43185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87640" y="424980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95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9640" y="46814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95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19640" y="51847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87640" y="56530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597708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55640" y="48243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087280" y="45943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374920" y="52927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732720" y="44290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43640" y="45734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2720" y="51847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80000" y="572436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63640" y="532908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435280" y="48610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4608360"/>
            <a:ext cx="1188720" cy="50508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1ED76-484D-47A3-A012-CE7992D17A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ogon process (Winlogon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process running \Windows\System32\Winlogon.exe that is responsible for responding to the SAS and for managing interactive logon s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Graphical Identification and Authentication (GINA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user-mode DLL that runs in the Winlogon process and that Winlogon uses to obtain a user's name and password or smart card P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ault is \Windows\System32\Msgina.d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0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000" y="3898800"/>
            <a:ext cx="129564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5040" y="418212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4113360"/>
            <a:ext cx="2556000" cy="14032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95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9640" y="454500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95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19640" y="504828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87640" y="5516640"/>
            <a:ext cx="172872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840280"/>
            <a:ext cx="172872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55640" y="4687920"/>
            <a:ext cx="720720" cy="79200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2087280" y="445788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374920" y="515628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429264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43640" y="443700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32720" y="504828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80000" y="55879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363640" y="5192640"/>
            <a:ext cx="57636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5435280" y="47242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3787920"/>
            <a:ext cx="1547640" cy="828360"/>
          </a:xfrm>
          <a:prstGeom prst="rect">
            <a:avLst/>
          </a:prstGeom>
          <a:noFill/>
          <a:ln w="414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66D40-C176-4A0D-A157-F1AD5C4810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Refere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s object access checks, manipulates privileges, and generates audit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of functions in Ntoskrnl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documented in D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ed to user mode by Windows API c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 Open Ntoskrnl.exe with Dependency Walker and view functions starting with “Se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A7660-B4ED-4ED7-B75E-2B0CBEEE3C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mmunication between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RM and LS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ion via local procedure call (LP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saCommandPort/SeRmCommand port for initial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age of private ports/shared memory when initialization is comple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4560" y="3597120"/>
            <a:ext cx="2210040" cy="58068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Local security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authority (LSA)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4560" y="4206960"/>
            <a:ext cx="221004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Lsa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24600" y="4206960"/>
            <a:ext cx="223020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4206960"/>
            <a:ext cx="2230560" cy="3373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14560" y="5276880"/>
            <a:ext cx="22100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RmCommand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24600" y="5276880"/>
            <a:ext cx="22302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comm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5276880"/>
            <a:ext cx="22305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Private comm.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914560" y="5657760"/>
            <a:ext cx="221004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urity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600"/>
            </a:b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monitor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(S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779600" y="5334120"/>
            <a:ext cx="83448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ha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33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800600"/>
            <a:ext cx="822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46320" y="4495680"/>
            <a:ext cx="133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4852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45720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2000" y="3276720"/>
            <a:ext cx="208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t audit event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reate logon session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5680" y="5699160"/>
            <a:ext cx="20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Write audit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lete logon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C733-D5CE-4803-9842-36D58B5E6F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hat Makes Logon Secure?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fore anyone logs on, the visible desktop is Winlogon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logon registers CTRL+ALT+DEL, the Secure Attention Sequence (SAS), as a standard hotkey sequ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S takes you to the Winlogon 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pplication can deregister it because only the thread that registers a hotkey can deregister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indows’ keyboard input processing code sees SAS it disables keyboard hooks so that no one can intercept i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55378-6D77-422B-BAAB-224EE40605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ter getting security identification (account name, password), the GINA sends it to the Local Security Authority Sub System (LSAS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alls an authentication package to verify the 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local or to a legacy domain, MSV1_0 is the authenticator. User name and password are encrypted and compared against the 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logon is to a AD domain the authenticator is Kerberos, which communicates with the AD service on a domain controll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re is a match, the SIDs of the corresponding user account and its groups are retr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ly, LSASS retrieves account privileges from the Security database or from 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6497D-3B13-4D6F-9443-1F8DA2BAE740}" type="slidenum">
              <a:t>15</a:t>
            </a:fld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SASS creates a token for your logon session and Winlogon attaches it to the first process of your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kens are created with the NtCreateToken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process get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p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its parent’s tok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Ds and privileges cannot be added to a to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gon session is active as long as there is at least one token associated with the s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“LogonSessions –p” (from Sysinternals) to view the active logon sessions on you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D8CA6-DBB1-4C73-A966-5E75B9054B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Log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22640" y="254628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17960" y="4081320"/>
            <a:ext cx="1581120" cy="10972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50920" y="2044800"/>
          <a:ext cx="302868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44800"/>
                    <a:ext cx="302868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73480" y="303372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0720" y="24796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0720" y="3022560"/>
            <a:ext cx="1563840" cy="49392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57480" y="401004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7480" y="455148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V1_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57800" y="41371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721400" y="3511080"/>
            <a:ext cx="734760" cy="497160"/>
            <a:chOff x="4721400" y="3511080"/>
            <a:chExt cx="734760" cy="497160"/>
          </a:xfrm>
        </p:grpSpPr>
        <p:sp>
          <p:nvSpPr>
            <p:cNvPr id="253" name=""/>
            <p:cNvSpPr/>
            <p:nvPr/>
          </p:nvSpPr>
          <p:spPr>
            <a:xfrm flipH="1" flipV="1">
              <a:off x="4721400" y="3511080"/>
              <a:ext cx="1440" cy="497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56400" y="35924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249800" y="259884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41840" y="4803840"/>
            <a:ext cx="604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76560" y="5533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AMSR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165720" y="3419640"/>
          <a:ext cx="2401920" cy="207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5720" y="3419640"/>
                    <a:ext cx="240192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B73B-682B-4406-A431-495B1394E6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370160" y="3076560"/>
            <a:ext cx="1855800" cy="102384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59200" y="296712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4520" y="4502160"/>
            <a:ext cx="1581120" cy="109692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16600" y="2962440"/>
            <a:ext cx="1646280" cy="1066680"/>
          </a:xfrm>
          <a:prstGeom prst="rect">
            <a:avLst/>
          </a:prstGeom>
          <a:solidFill>
            <a:srgbClr val="9aa3ad"/>
          </a:solidFill>
          <a:ln w="9360">
            <a:solidFill>
              <a:srgbClr val="9aa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258920" y="2959200"/>
          <a:ext cx="185724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59200"/>
                    <a:ext cx="185724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3110040" y="3454560"/>
            <a:ext cx="6904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97280" y="290052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32360" y="30337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Winlo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97280" y="3443400"/>
            <a:ext cx="1563840" cy="4935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MSG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94040" y="4430880"/>
            <a:ext cx="1563840" cy="10285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94040" y="4971960"/>
            <a:ext cx="156384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Kerber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194000" y="455760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72320" y="2887560"/>
            <a:ext cx="1563480" cy="10288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72320" y="3429000"/>
            <a:ext cx="1563480" cy="49536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36e"/>
                </a:solidFill>
                <a:latin typeface="Times New Roman"/>
              </a:rPr>
              <a:t>NTDS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80200" y="299232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36e"/>
                </a:solidFill>
                <a:latin typeface="Times New Roman"/>
              </a:rPr>
              <a:t>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56200" y="2722680"/>
            <a:ext cx="0" cy="3192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57240" y="3932280"/>
            <a:ext cx="735120" cy="496800"/>
            <a:chOff x="4557240" y="3932280"/>
            <a:chExt cx="735120" cy="496800"/>
          </a:xfrm>
        </p:grpSpPr>
        <p:sp>
          <p:nvSpPr>
            <p:cNvPr id="278" name=""/>
            <p:cNvSpPr/>
            <p:nvPr/>
          </p:nvSpPr>
          <p:spPr>
            <a:xfrm flipH="1" flipV="1">
              <a:off x="4557240" y="3932280"/>
              <a:ext cx="1800" cy="496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92600" y="40132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436e"/>
                  </a:solidFill>
                  <a:latin typeface="Times New Roman"/>
                </a:rPr>
                <a:t>LP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 flipH="1" flipV="1">
            <a:off x="7462440" y="3948120"/>
            <a:ext cx="1800" cy="496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70480" y="3674880"/>
            <a:ext cx="1390680" cy="1495080"/>
            <a:chOff x="5370480" y="3674880"/>
            <a:chExt cx="1390680" cy="1495080"/>
          </a:xfrm>
        </p:grpSpPr>
        <p:sp>
          <p:nvSpPr>
            <p:cNvPr id="282" name=""/>
            <p:cNvSpPr/>
            <p:nvPr/>
          </p:nvSpPr>
          <p:spPr>
            <a:xfrm flipV="1">
              <a:off x="5370480" y="3674880"/>
              <a:ext cx="1390680" cy="1495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07320" y="37972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UD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662160" y="244944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omain Control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63560" y="4632480"/>
            <a:ext cx="147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ocal Mach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mote Logon - Active Direc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logon is for a domain account, the encrypted credentials are sent to LSASS on the domain controll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12000" y="4437000"/>
            <a:ext cx="1079640" cy="1513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Acti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28C4-C9EC-471D-95EC-9FC25893D5AA}" type="slidenum">
              <a:t>18</a:t>
            </a:fld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253880"/>
            <a:ext cx="37864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account store in 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074000" y="1413000"/>
            <a:ext cx="1807560" cy="1717560"/>
            <a:chOff x="7074000" y="1413000"/>
            <a:chExt cx="1807560" cy="1717560"/>
          </a:xfrm>
        </p:grpSpPr>
        <p:sp>
          <p:nvSpPr>
            <p:cNvPr id="292" name=""/>
            <p:cNvSpPr/>
            <p:nvPr/>
          </p:nvSpPr>
          <p:spPr>
            <a:xfrm>
              <a:off x="7074000" y="1413000"/>
              <a:ext cx="1807560" cy="1717560"/>
            </a:xfrm>
            <a:prstGeom prst="triangle">
              <a:avLst>
                <a:gd name="adj" fmla="val 49986"/>
              </a:avLst>
            </a:prstGeom>
            <a:gradFill rotWithShape="0">
              <a:gsLst>
                <a:gs pos="0">
                  <a:srgbClr val="4b6532"/>
                </a:gs>
                <a:gs pos="100000">
                  <a:srgbClr val="99cc66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85880" y="1944360"/>
              <a:ext cx="0" cy="12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04520" y="1791360"/>
              <a:ext cx="159120" cy="1400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818480" y="2169720"/>
              <a:ext cx="167040" cy="29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1720" y="2187360"/>
              <a:ext cx="249480" cy="30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07760" y="2068920"/>
              <a:ext cx="157320" cy="14184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512480" y="2541960"/>
              <a:ext cx="279720" cy="35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8480" y="2531160"/>
              <a:ext cx="298800" cy="370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18480" y="2523240"/>
              <a:ext cx="0" cy="37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57680" y="2505600"/>
              <a:ext cx="170280" cy="3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350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178120" y="244404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732800" y="2444040"/>
              <a:ext cx="1573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4048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036640" y="2824200"/>
              <a:ext cx="15768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38920" y="2824200"/>
              <a:ext cx="159120" cy="140400"/>
            </a:xfrm>
            <a:prstGeom prst="ellipse">
              <a:avLst/>
            </a:prstGeom>
            <a:gradFill rotWithShape="0">
              <a:gsLst>
                <a:gs pos="0">
                  <a:srgbClr val="464b4f"/>
                </a:gs>
                <a:gs pos="100000">
                  <a:srgbClr val="9aa3ad"/>
                </a:gs>
              </a:gsLst>
              <a:lin ang="5400000"/>
            </a:gra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572000" y="3716280"/>
            <a:ext cx="1147680" cy="107496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380880" y="1413000"/>
            <a:ext cx="7413840" cy="2679480"/>
            <a:chOff x="380880" y="1413000"/>
            <a:chExt cx="7413840" cy="2679480"/>
          </a:xfrm>
        </p:grpSpPr>
        <p:sp>
          <p:nvSpPr>
            <p:cNvPr id="310" name=""/>
            <p:cNvSpPr/>
            <p:nvPr/>
          </p:nvSpPr>
          <p:spPr>
            <a:xfrm>
              <a:off x="380880" y="254160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grated Kerberos v5 log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4772160" y="1413000"/>
              <a:ext cx="3022560" cy="2679480"/>
              <a:chOff x="4772160" y="1413000"/>
              <a:chExt cx="3022560" cy="2679480"/>
            </a:xfrm>
          </p:grpSpPr>
          <p:sp>
            <p:nvSpPr>
              <p:cNvPr id="312" name=""/>
              <p:cNvSpPr/>
              <p:nvPr/>
            </p:nvSpPr>
            <p:spPr>
              <a:xfrm>
                <a:off x="4772160" y="1413000"/>
                <a:ext cx="2438280" cy="1468440"/>
              </a:xfrm>
              <a:prstGeom prst="ellipse">
                <a:avLst/>
              </a:prstGeom>
              <a:gradFill rotWithShape="0">
                <a:gsLst>
                  <a:gs pos="0">
                    <a:srgbClr val="32647d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Key Distribution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enter (KDC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5558040" y="2881440"/>
                <a:ext cx="741240" cy="121104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16920" y="2211480"/>
                <a:ext cx="577800" cy="0"/>
              </a:xfrm>
              <a:prstGeom prst="line">
                <a:avLst/>
              </a:prstGeom>
              <a:ln w="38160">
                <a:solidFill>
                  <a:srgbClr val="66cc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396720" y="3429000"/>
            <a:ext cx="5881680" cy="2535120"/>
            <a:chOff x="396720" y="3429000"/>
            <a:chExt cx="5881680" cy="2535120"/>
          </a:xfrm>
        </p:grpSpPr>
        <p:sp>
          <p:nvSpPr>
            <p:cNvPr id="316" name=""/>
            <p:cNvSpPr/>
            <p:nvPr/>
          </p:nvSpPr>
          <p:spPr>
            <a:xfrm>
              <a:off x="396720" y="3429000"/>
              <a:ext cx="442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otected store for public key credentia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4943520" y="4975200"/>
              <a:ext cx="1334880" cy="988920"/>
              <a:chOff x="4943520" y="4975200"/>
              <a:chExt cx="1334880" cy="988920"/>
            </a:xfrm>
          </p:grpSpPr>
          <p:sp>
            <p:nvSpPr>
              <p:cNvPr id="318" name=""/>
              <p:cNvSpPr/>
              <p:nvPr/>
            </p:nvSpPr>
            <p:spPr>
              <a:xfrm>
                <a:off x="4943520" y="4975200"/>
                <a:ext cx="1334880" cy="9889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81800"/>
                  </a:gs>
                  <a:gs pos="100000">
                    <a:srgbClr val="ff9900"/>
                  </a:gs>
                </a:gsLst>
                <a:lin ang="5400000"/>
              </a:gradFill>
              <a:ln w="12600">
                <a:solidFill>
                  <a:srgbClr val="00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5634000" y="5308560"/>
                <a:ext cx="480960" cy="534960"/>
                <a:chOff x="5634000" y="5308560"/>
                <a:chExt cx="480960" cy="534960"/>
              </a:xfrm>
            </p:grpSpPr>
            <p:graphicFrame>
              <p:nvGraphicFramePr>
                <p:cNvPr id="320" name=""/>
                <p:cNvGraphicFramePr/>
                <p:nvPr/>
              </p:nvGraphicFramePr>
              <p:xfrm>
                <a:off x="5634000" y="5308560"/>
                <a:ext cx="480960" cy="53496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321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634000" y="5308560"/>
                          <a:ext cx="480960" cy="534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22" name=""/>
                <p:cNvSpPr/>
                <p:nvPr/>
              </p:nvSpPr>
              <p:spPr>
                <a:xfrm>
                  <a:off x="5709960" y="5420160"/>
                  <a:ext cx="139680" cy="34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323" name=""/>
              <p:cNvGraphicFramePr/>
              <p:nvPr/>
            </p:nvGraphicFramePr>
            <p:xfrm>
              <a:off x="5068800" y="5297400"/>
              <a:ext cx="363600" cy="4870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068800" y="5297400"/>
                        <a:ext cx="363600" cy="48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5" name=""/>
          <p:cNvGrpSpPr/>
          <p:nvPr/>
        </p:nvGrpSpPr>
        <p:grpSpPr>
          <a:xfrm>
            <a:off x="396720" y="4322880"/>
            <a:ext cx="8294400" cy="1363680"/>
            <a:chOff x="396720" y="4322880"/>
            <a:chExt cx="8294400" cy="1363680"/>
          </a:xfrm>
        </p:grpSpPr>
        <p:grpSp>
          <p:nvGrpSpPr>
            <p:cNvPr id="326" name=""/>
            <p:cNvGrpSpPr/>
            <p:nvPr/>
          </p:nvGrpSpPr>
          <p:grpSpPr>
            <a:xfrm>
              <a:off x="7964640" y="4322880"/>
              <a:ext cx="726480" cy="960120"/>
              <a:chOff x="7964640" y="4322880"/>
              <a:chExt cx="726480" cy="960120"/>
            </a:xfrm>
          </p:grpSpPr>
          <p:sp>
            <p:nvSpPr>
              <p:cNvPr id="327" name=""/>
              <p:cNvSpPr/>
              <p:nvPr/>
            </p:nvSpPr>
            <p:spPr>
              <a:xfrm>
                <a:off x="8217000" y="4353120"/>
                <a:ext cx="315360" cy="929880"/>
              </a:xfrm>
              <a:custGeom>
                <a:avLst/>
                <a:gdLst/>
                <a:ahLst/>
                <a:rect l="l" t="t" r="r" b="b"/>
                <a:pathLst>
                  <a:path w="189" h="458">
                    <a:moveTo>
                      <a:pt x="188" y="0"/>
                    </a:moveTo>
                    <a:lnTo>
                      <a:pt x="0" y="5"/>
                    </a:lnTo>
                    <a:lnTo>
                      <a:pt x="0" y="457"/>
                    </a:lnTo>
                    <a:lnTo>
                      <a:pt x="188" y="437"/>
                    </a:lnTo>
                    <a:lnTo>
                      <a:pt x="188" y="0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8235000" y="4842720"/>
                <a:ext cx="280800" cy="395640"/>
              </a:xfrm>
              <a:custGeom>
                <a:avLst/>
                <a:gdLst/>
                <a:ahLst/>
                <a:rect l="l" t="t" r="r" b="b"/>
                <a:pathLst>
                  <a:path w="168" h="195">
                    <a:moveTo>
                      <a:pt x="0" y="11"/>
                    </a:moveTo>
                    <a:lnTo>
                      <a:pt x="167" y="0"/>
                    </a:lnTo>
                    <a:lnTo>
                      <a:pt x="167" y="177"/>
                    </a:lnTo>
                    <a:lnTo>
                      <a:pt x="0" y="194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235000" y="4523400"/>
                <a:ext cx="267480" cy="266040"/>
              </a:xfrm>
              <a:custGeom>
                <a:avLst/>
                <a:gdLst/>
                <a:ahLst/>
                <a:rect l="l" t="t" r="r" b="b"/>
                <a:pathLst>
                  <a:path w="160" h="131">
                    <a:moveTo>
                      <a:pt x="0" y="6"/>
                    </a:moveTo>
                    <a:lnTo>
                      <a:pt x="159" y="0"/>
                    </a:lnTo>
                    <a:lnTo>
                      <a:pt x="159" y="121"/>
                    </a:lnTo>
                    <a:lnTo>
                      <a:pt x="0" y="13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964640" y="4324680"/>
                <a:ext cx="567720" cy="38520"/>
              </a:xfrm>
              <a:custGeom>
                <a:avLst/>
                <a:gdLst/>
                <a:ahLst/>
                <a:rect l="l" t="t" r="r" b="b"/>
                <a:pathLst>
                  <a:path w="340" h="19">
                    <a:moveTo>
                      <a:pt x="0" y="1"/>
                    </a:moveTo>
                    <a:lnTo>
                      <a:pt x="151" y="18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515151"/>
              </a:solidFill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964640" y="4324680"/>
                <a:ext cx="253800" cy="958320"/>
              </a:xfrm>
              <a:custGeom>
                <a:avLst/>
                <a:gdLst/>
                <a:ahLst/>
                <a:rect l="l" t="t" r="r" b="b"/>
                <a:pathLst>
                  <a:path w="152" h="472">
                    <a:moveTo>
                      <a:pt x="151" y="471"/>
                    </a:moveTo>
                    <a:lnTo>
                      <a:pt x="0" y="358"/>
                    </a:lnTo>
                    <a:lnTo>
                      <a:pt x="0" y="0"/>
                    </a:lnTo>
                    <a:lnTo>
                      <a:pt x="151" y="18"/>
                    </a:lnTo>
                    <a:lnTo>
                      <a:pt x="151" y="471"/>
                    </a:lnTo>
                  </a:path>
                </a:pathLst>
              </a:custGeom>
              <a:solidFill>
                <a:srgbClr val="b5b5b5"/>
              </a:solidFill>
              <a:ln cap="rnd" w="28440">
                <a:solidFill>
                  <a:srgbClr val="b5b5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8188560" y="4357080"/>
                <a:ext cx="29880" cy="925560"/>
              </a:xfrm>
              <a:custGeom>
                <a:avLst/>
                <a:gdLst/>
                <a:ahLst/>
                <a:rect l="l" t="t" r="r" b="b"/>
                <a:pathLst>
                  <a:path w="18" h="456">
                    <a:moveTo>
                      <a:pt x="17" y="2"/>
                    </a:moveTo>
                    <a:lnTo>
                      <a:pt x="0" y="0"/>
                    </a:lnTo>
                    <a:lnTo>
                      <a:pt x="0" y="443"/>
                    </a:lnTo>
                    <a:lnTo>
                      <a:pt x="17" y="455"/>
                    </a:lnTo>
                    <a:lnTo>
                      <a:pt x="17" y="2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35000" y="4521600"/>
                <a:ext cx="280800" cy="277920"/>
              </a:xfrm>
              <a:custGeom>
                <a:avLst/>
                <a:gdLst/>
                <a:ahLst/>
                <a:rect l="l" t="t" r="r" b="b"/>
                <a:pathLst>
                  <a:path w="168" h="137">
                    <a:moveTo>
                      <a:pt x="167" y="0"/>
                    </a:moveTo>
                    <a:lnTo>
                      <a:pt x="167" y="125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159" y="122"/>
                    </a:lnTo>
                    <a:lnTo>
                      <a:pt x="159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8235000" y="4470840"/>
                <a:ext cx="280800" cy="54720"/>
              </a:xfrm>
              <a:custGeom>
                <a:avLst/>
                <a:gdLst/>
                <a:ahLst/>
                <a:rect l="l" t="t" r="r" b="b"/>
                <a:pathLst>
                  <a:path w="168" h="27">
                    <a:moveTo>
                      <a:pt x="0" y="15"/>
                    </a:moveTo>
                    <a:lnTo>
                      <a:pt x="0" y="19"/>
                    </a:lnTo>
                    <a:lnTo>
                      <a:pt x="39" y="18"/>
                    </a:lnTo>
                    <a:lnTo>
                      <a:pt x="39" y="26"/>
                    </a:lnTo>
                    <a:lnTo>
                      <a:pt x="128" y="23"/>
                    </a:lnTo>
                    <a:lnTo>
                      <a:pt x="128" y="16"/>
                    </a:lnTo>
                    <a:lnTo>
                      <a:pt x="167" y="14"/>
                    </a:lnTo>
                    <a:lnTo>
                      <a:pt x="167" y="8"/>
                    </a:lnTo>
                    <a:lnTo>
                      <a:pt x="128" y="10"/>
                    </a:lnTo>
                    <a:lnTo>
                      <a:pt x="128" y="0"/>
                    </a:lnTo>
                    <a:lnTo>
                      <a:pt x="111" y="1"/>
                    </a:lnTo>
                    <a:lnTo>
                      <a:pt x="32" y="13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167" y="0"/>
                    </a:moveTo>
                    <a:lnTo>
                      <a:pt x="167" y="17"/>
                    </a:lnTo>
                    <a:lnTo>
                      <a:pt x="0" y="22"/>
                    </a:lnTo>
                    <a:lnTo>
                      <a:pt x="0" y="19"/>
                    </a:lnTo>
                    <a:lnTo>
                      <a:pt x="158" y="1"/>
                    </a:lnTo>
                    <a:lnTo>
                      <a:pt x="167" y="0"/>
                    </a:lnTo>
                  </a:path>
                </a:pathLst>
              </a:custGeom>
              <a:solidFill>
                <a:srgbClr val="ffffff"/>
              </a:solidFill>
              <a:ln cap="rnd"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64640" y="4322880"/>
                <a:ext cx="567720" cy="40320"/>
              </a:xfrm>
              <a:custGeom>
                <a:avLst/>
                <a:gdLst/>
                <a:ahLst/>
                <a:rect l="l" t="t" r="r" b="b"/>
                <a:pathLst>
                  <a:path w="340" h="20">
                    <a:moveTo>
                      <a:pt x="0" y="2"/>
                    </a:moveTo>
                    <a:lnTo>
                      <a:pt x="151" y="19"/>
                    </a:lnTo>
                    <a:lnTo>
                      <a:pt x="339" y="14"/>
                    </a:lnTo>
                    <a:lnTo>
                      <a:pt x="181" y="0"/>
                    </a:lnTo>
                    <a:lnTo>
                      <a:pt x="0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8214840" y="4353120"/>
                <a:ext cx="317520" cy="929880"/>
              </a:xfrm>
              <a:custGeom>
                <a:avLst/>
                <a:gdLst/>
                <a:ahLst/>
                <a:rect l="l" t="t" r="r" b="b"/>
                <a:pathLst>
                  <a:path w="190" h="458">
                    <a:moveTo>
                      <a:pt x="0" y="5"/>
                    </a:moveTo>
                    <a:lnTo>
                      <a:pt x="0" y="457"/>
                    </a:lnTo>
                    <a:lnTo>
                      <a:pt x="189" y="437"/>
                    </a:lnTo>
                    <a:lnTo>
                      <a:pt x="189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4640" y="4324680"/>
                <a:ext cx="252360" cy="958320"/>
              </a:xfrm>
              <a:custGeom>
                <a:avLst/>
                <a:gdLst/>
                <a:ahLst/>
                <a:rect l="l" t="t" r="r" b="b"/>
                <a:pathLst>
                  <a:path w="151" h="472">
                    <a:moveTo>
                      <a:pt x="0" y="0"/>
                    </a:moveTo>
                    <a:lnTo>
                      <a:pt x="0" y="358"/>
                    </a:lnTo>
                    <a:lnTo>
                      <a:pt x="150" y="471"/>
                    </a:lnTo>
                    <a:lnTo>
                      <a:pt x="150" y="1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188560" y="4359240"/>
                <a:ext cx="0" cy="89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88560" y="437112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9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88560" y="443844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35000" y="4387680"/>
                <a:ext cx="280800" cy="46440"/>
              </a:xfrm>
              <a:custGeom>
                <a:avLst/>
                <a:gdLst/>
                <a:ahLst/>
                <a:rect l="l" t="t" r="r" b="b"/>
                <a:pathLst>
                  <a:path w="168" h="23">
                    <a:moveTo>
                      <a:pt x="0" y="5"/>
                    </a:moveTo>
                    <a:lnTo>
                      <a:pt x="0" y="22"/>
                    </a:lnTo>
                    <a:lnTo>
                      <a:pt x="167" y="17"/>
                    </a:lnTo>
                    <a:lnTo>
                      <a:pt x="167" y="0"/>
                    </a:lnTo>
                    <a:lnTo>
                      <a:pt x="0" y="5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188560" y="4458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188560" y="45216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8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188560" y="4775400"/>
                <a:ext cx="343800" cy="3420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205" y="0"/>
                    </a:moveTo>
                    <a:lnTo>
                      <a:pt x="16" y="16"/>
                    </a:lnTo>
                    <a:lnTo>
                      <a:pt x="0" y="7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235000" y="4536000"/>
                <a:ext cx="0" cy="259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514360" y="4523400"/>
                <a:ext cx="0" cy="25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235000" y="4523400"/>
                <a:ext cx="267480" cy="263880"/>
              </a:xfrm>
              <a:custGeom>
                <a:avLst/>
                <a:gdLst/>
                <a:ahLst/>
                <a:rect l="l" t="t" r="r" b="b"/>
                <a:pathLst>
                  <a:path w="160" h="130">
                    <a:moveTo>
                      <a:pt x="159" y="0"/>
                    </a:moveTo>
                    <a:lnTo>
                      <a:pt x="159" y="121"/>
                    </a:lnTo>
                    <a:lnTo>
                      <a:pt x="0" y="129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00680" y="4769640"/>
                <a:ext cx="1332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8234640" y="4606920"/>
                <a:ext cx="265320" cy="1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8234640" y="4692240"/>
                <a:ext cx="265320" cy="1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188560" y="4842720"/>
                <a:ext cx="343800" cy="33840"/>
              </a:xfrm>
              <a:custGeom>
                <a:avLst/>
                <a:gdLst/>
                <a:ahLst/>
                <a:rect l="l" t="t" r="r" b="b"/>
                <a:pathLst>
                  <a:path w="206" h="17">
                    <a:moveTo>
                      <a:pt x="0" y="3"/>
                    </a:moveTo>
                    <a:lnTo>
                      <a:pt x="16" y="16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188560" y="5200200"/>
                <a:ext cx="343800" cy="42120"/>
              </a:xfrm>
              <a:custGeom>
                <a:avLst/>
                <a:gdLst/>
                <a:ahLst/>
                <a:rect l="l" t="t" r="r" b="b"/>
                <a:pathLst>
                  <a:path w="206" h="21">
                    <a:moveTo>
                      <a:pt x="0" y="7"/>
                    </a:moveTo>
                    <a:lnTo>
                      <a:pt x="16" y="20"/>
                    </a:lnTo>
                    <a:lnTo>
                      <a:pt x="205" y="0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235000" y="4862880"/>
                <a:ext cx="0" cy="373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514360" y="4842720"/>
                <a:ext cx="0" cy="35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235000" y="5175720"/>
                <a:ext cx="280800" cy="4212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4"/>
                    </a:lnTo>
                    <a:lnTo>
                      <a:pt x="167" y="0"/>
                    </a:lnTo>
                    <a:lnTo>
                      <a:pt x="0" y="17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235000" y="5159160"/>
                <a:ext cx="280800" cy="42480"/>
              </a:xfrm>
              <a:custGeom>
                <a:avLst/>
                <a:gdLst/>
                <a:ahLst/>
                <a:rect l="l" t="t" r="r" b="b"/>
                <a:pathLst>
                  <a:path w="168" h="21">
                    <a:moveTo>
                      <a:pt x="0" y="20"/>
                    </a:moveTo>
                    <a:lnTo>
                      <a:pt x="167" y="3"/>
                    </a:lnTo>
                    <a:lnTo>
                      <a:pt x="167" y="0"/>
                    </a:lnTo>
                    <a:lnTo>
                      <a:pt x="0" y="16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235000" y="5145480"/>
                <a:ext cx="280800" cy="40320"/>
              </a:xfrm>
              <a:custGeom>
                <a:avLst/>
                <a:gdLst/>
                <a:ahLst/>
                <a:rect l="l" t="t" r="r" b="b"/>
                <a:pathLst>
                  <a:path w="168" h="20">
                    <a:moveTo>
                      <a:pt x="167" y="3"/>
                    </a:moveTo>
                    <a:lnTo>
                      <a:pt x="0" y="19"/>
                    </a:lnTo>
                    <a:lnTo>
                      <a:pt x="0" y="15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8235000" y="5128920"/>
                <a:ext cx="280800" cy="36720"/>
              </a:xfrm>
              <a:custGeom>
                <a:avLst/>
                <a:gdLst/>
                <a:ahLst/>
                <a:rect l="l" t="t" r="r" b="b"/>
                <a:pathLst>
                  <a:path w="168" h="18">
                    <a:moveTo>
                      <a:pt x="167" y="3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235000" y="5110920"/>
                <a:ext cx="280800" cy="38160"/>
              </a:xfrm>
              <a:custGeom>
                <a:avLst/>
                <a:gdLst/>
                <a:ahLst/>
                <a:rect l="l" t="t" r="r" b="b"/>
                <a:pathLst>
                  <a:path w="168" h="19">
                    <a:moveTo>
                      <a:pt x="167" y="3"/>
                    </a:moveTo>
                    <a:lnTo>
                      <a:pt x="0" y="18"/>
                    </a:lnTo>
                    <a:lnTo>
                      <a:pt x="0" y="14"/>
                    </a:lnTo>
                    <a:lnTo>
                      <a:pt x="167" y="0"/>
                    </a:lnTo>
                    <a:lnTo>
                      <a:pt x="167" y="3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235000" y="4389480"/>
                <a:ext cx="267480" cy="42480"/>
              </a:xfrm>
              <a:custGeom>
                <a:avLst/>
                <a:gdLst/>
                <a:ahLst/>
                <a:rect l="l" t="t" r="r" b="b"/>
                <a:pathLst>
                  <a:path w="160" h="21">
                    <a:moveTo>
                      <a:pt x="159" y="0"/>
                    </a:moveTo>
                    <a:lnTo>
                      <a:pt x="159" y="15"/>
                    </a:lnTo>
                    <a:lnTo>
                      <a:pt x="0" y="20"/>
                    </a:lnTo>
                    <a:lnTo>
                      <a:pt x="1" y="5"/>
                    </a:lnTo>
                    <a:lnTo>
                      <a:pt x="159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8500680" y="4419720"/>
                <a:ext cx="13320" cy="3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300160" y="4470840"/>
                <a:ext cx="150120" cy="54720"/>
              </a:xfrm>
              <a:custGeom>
                <a:avLst/>
                <a:gdLst/>
                <a:ahLst/>
                <a:rect l="l" t="t" r="r" b="b"/>
                <a:pathLst>
                  <a:path w="90" h="27">
                    <a:moveTo>
                      <a:pt x="0" y="26"/>
                    </a:moveTo>
                    <a:lnTo>
                      <a:pt x="0" y="3"/>
                    </a:lnTo>
                    <a:lnTo>
                      <a:pt x="89" y="0"/>
                    </a:lnTo>
                    <a:lnTo>
                      <a:pt x="89" y="23"/>
                    </a:lnTo>
                    <a:lnTo>
                      <a:pt x="0" y="26"/>
                    </a:lnTo>
                  </a:path>
                </a:pathLst>
              </a:custGeom>
              <a:noFill/>
              <a:ln cap="rnd" w="28440">
                <a:solidFill>
                  <a:srgbClr val="51515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235000" y="4470840"/>
                <a:ext cx="280800" cy="48240"/>
              </a:xfrm>
              <a:custGeom>
                <a:avLst/>
                <a:gdLst/>
                <a:ahLst/>
                <a:rect l="l" t="t" r="r" b="b"/>
                <a:pathLst>
                  <a:path w="168" h="24">
                    <a:moveTo>
                      <a:pt x="113" y="8"/>
                    </a:moveTo>
                    <a:lnTo>
                      <a:pt x="167" y="6"/>
                    </a:lnTo>
                    <a:lnTo>
                      <a:pt x="167" y="14"/>
                    </a:lnTo>
                    <a:lnTo>
                      <a:pt x="159" y="13"/>
                    </a:lnTo>
                    <a:lnTo>
                      <a:pt x="113" y="14"/>
                    </a:lnTo>
                    <a:lnTo>
                      <a:pt x="113" y="20"/>
                    </a:lnTo>
                    <a:lnTo>
                      <a:pt x="39" y="23"/>
                    </a:lnTo>
                    <a:lnTo>
                      <a:pt x="39" y="18"/>
                    </a:lnTo>
                    <a:lnTo>
                      <a:pt x="32" y="17"/>
                    </a:lnTo>
                    <a:lnTo>
                      <a:pt x="0" y="18"/>
                    </a:lnTo>
                    <a:lnTo>
                      <a:pt x="0" y="12"/>
                    </a:lnTo>
                    <a:lnTo>
                      <a:pt x="39" y="10"/>
                    </a:lnTo>
                    <a:lnTo>
                      <a:pt x="39" y="3"/>
                    </a:lnTo>
                    <a:lnTo>
                      <a:pt x="128" y="0"/>
                    </a:lnTo>
                    <a:lnTo>
                      <a:pt x="113" y="8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8235000" y="4493160"/>
                <a:ext cx="215280" cy="34200"/>
              </a:xfrm>
              <a:custGeom>
                <a:avLst/>
                <a:gdLst/>
                <a:ahLst/>
                <a:rect l="l" t="t" r="r" b="b"/>
                <a:pathLst>
                  <a:path w="129" h="17">
                    <a:moveTo>
                      <a:pt x="0" y="0"/>
                    </a:moveTo>
                    <a:lnTo>
                      <a:pt x="0" y="8"/>
                    </a:lnTo>
                    <a:lnTo>
                      <a:pt x="38" y="7"/>
                    </a:lnTo>
                    <a:lnTo>
                      <a:pt x="38" y="16"/>
                    </a:lnTo>
                    <a:lnTo>
                      <a:pt x="128" y="12"/>
                    </a:lnTo>
                    <a:lnTo>
                      <a:pt x="128" y="4"/>
                    </a:lnTo>
                    <a:lnTo>
                      <a:pt x="112" y="2"/>
                    </a:lnTo>
                  </a:path>
                </a:pathLst>
              </a:custGeom>
              <a:noFill/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8448840" y="4497120"/>
                <a:ext cx="65160" cy="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449200" y="4470840"/>
                <a:ext cx="0" cy="1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248680" y="4409640"/>
                <a:ext cx="2772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5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28684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6" y="6"/>
                    </a:lnTo>
                    <a:lnTo>
                      <a:pt x="13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12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2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32536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65320" y="440784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16" y="5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2" y="16"/>
                    </a:lnTo>
                    <a:lnTo>
                      <a:pt x="5" y="16"/>
                    </a:lnTo>
                    <a:lnTo>
                      <a:pt x="8" y="16"/>
                    </a:lnTo>
                    <a:lnTo>
                      <a:pt x="10" y="16"/>
                    </a:lnTo>
                    <a:lnTo>
                      <a:pt x="13" y="16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05640" y="44056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2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4236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3" y="6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5" y="12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10" y="12"/>
                    </a:lnTo>
                    <a:lnTo>
                      <a:pt x="13" y="12"/>
                    </a:lnTo>
                    <a:lnTo>
                      <a:pt x="13" y="9"/>
                    </a:lnTo>
                    <a:lnTo>
                      <a:pt x="16" y="9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82320" y="4402080"/>
                <a:ext cx="28080" cy="342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6" y="8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3" y="4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" y="16"/>
                    </a:lnTo>
                    <a:lnTo>
                      <a:pt x="6" y="16"/>
                    </a:lnTo>
                    <a:lnTo>
                      <a:pt x="9" y="16"/>
                    </a:lnTo>
                    <a:lnTo>
                      <a:pt x="12" y="16"/>
                    </a:lnTo>
                    <a:lnTo>
                      <a:pt x="16" y="16"/>
                    </a:lnTo>
                    <a:lnTo>
                      <a:pt x="16" y="12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0000"/>
              </a:solidFill>
              <a:ln cap="rnd"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87360" y="4523400"/>
                <a:ext cx="28080" cy="247680"/>
              </a:xfrm>
              <a:custGeom>
                <a:avLst/>
                <a:gdLst/>
                <a:ahLst/>
                <a:rect l="l" t="t" r="r" b="b"/>
                <a:pathLst>
                  <a:path w="17" h="122">
                    <a:moveTo>
                      <a:pt x="0" y="0"/>
                    </a:moveTo>
                    <a:lnTo>
                      <a:pt x="0" y="42"/>
                    </a:lnTo>
                    <a:lnTo>
                      <a:pt x="12" y="42"/>
                    </a:lnTo>
                    <a:lnTo>
                      <a:pt x="0" y="47"/>
                    </a:lnTo>
                    <a:lnTo>
                      <a:pt x="0" y="84"/>
                    </a:lnTo>
                    <a:lnTo>
                      <a:pt x="12" y="84"/>
                    </a:lnTo>
                    <a:lnTo>
                      <a:pt x="0" y="89"/>
                    </a:lnTo>
                    <a:lnTo>
                      <a:pt x="0" y="121"/>
                    </a:lnTo>
                    <a:lnTo>
                      <a:pt x="16" y="121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30920" y="5151240"/>
                <a:ext cx="160200" cy="91080"/>
              </a:xfrm>
              <a:custGeom>
                <a:avLst/>
                <a:gdLst/>
                <a:ahLst/>
                <a:rect l="l" t="t" r="r" b="b"/>
                <a:pathLst>
                  <a:path w="96" h="45">
                    <a:moveTo>
                      <a:pt x="0" y="44"/>
                    </a:moveTo>
                    <a:lnTo>
                      <a:pt x="95" y="35"/>
                    </a:lnTo>
                    <a:lnTo>
                      <a:pt x="0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cap="rnd"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396720" y="4861080"/>
              <a:ext cx="41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7120" indent="-357120">
                <a:spcBef>
                  <a:spcPts val="601"/>
                </a:spcBef>
                <a:spcAft>
                  <a:spcPts val="601"/>
                </a:spcAft>
                <a:buSzPct val="113173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dustry standard network security protocol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8920" y="4491000"/>
              <a:ext cx="2222640" cy="1800"/>
            </a:xfrm>
            <a:prstGeom prst="line">
              <a:avLst/>
            </a:prstGeom>
            <a:ln w="38160">
              <a:solidFill>
                <a:srgbClr val="fe99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481800" y="4597560"/>
              <a:ext cx="1369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Kerberos,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SL/TLS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1457280" y="6273720"/>
            <a:ext cx="646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L - Secure Socket Layer, TLS - Transport Layer Security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C804C-1DA8-464D-9BF4-0537FA8F20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149A6-7A5C-48E0-AE77-A3F821D547F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ross-platform Strate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Kerberos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1698480" y="3429000"/>
            <a:ext cx="862200" cy="83340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83480" y="49489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16080" y="5480640"/>
            <a:ext cx="2210760" cy="45972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SS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52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1322280" y="519696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6240" y="342756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475240" y="4391640"/>
            <a:ext cx="3144960" cy="459720"/>
          </a:xfrm>
          <a:prstGeom prst="rect">
            <a:avLst/>
          </a:pr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684760" y="5149440"/>
            <a:ext cx="200196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09520" y="5297760"/>
            <a:ext cx="2245680" cy="8254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 Kerbero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h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08680" y="48978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S-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27080" y="342756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3517920" y="4610160"/>
            <a:ext cx="1908000" cy="144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311640" y="5703840"/>
            <a:ext cx="2435040" cy="0"/>
          </a:xfrm>
          <a:prstGeom prst="line">
            <a:avLst/>
          </a:prstGeom>
          <a:ln w="38160">
            <a:solidFill>
              <a:srgbClr val="99cc66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830760" y="1851120"/>
            <a:ext cx="690480" cy="750600"/>
            <a:chOff x="3830760" y="1851120"/>
            <a:chExt cx="690480" cy="750600"/>
          </a:xfrm>
        </p:grpSpPr>
        <p:sp>
          <p:nvSpPr>
            <p:cNvPr id="397" name=""/>
            <p:cNvSpPr/>
            <p:nvPr/>
          </p:nvSpPr>
          <p:spPr>
            <a:xfrm>
              <a:off x="4070520" y="1874880"/>
              <a:ext cx="299880" cy="726840"/>
            </a:xfrm>
            <a:custGeom>
              <a:avLst/>
              <a:gdLst/>
              <a:ahLst/>
              <a:rect l="l" t="t" r="r" b="b"/>
              <a:pathLst>
                <a:path w="189" h="458">
                  <a:moveTo>
                    <a:pt x="188" y="0"/>
                  </a:moveTo>
                  <a:lnTo>
                    <a:pt x="0" y="5"/>
                  </a:lnTo>
                  <a:lnTo>
                    <a:pt x="0" y="457"/>
                  </a:lnTo>
                  <a:lnTo>
                    <a:pt x="188" y="437"/>
                  </a:lnTo>
                  <a:lnTo>
                    <a:pt x="188" y="0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87800" y="2257560"/>
              <a:ext cx="266760" cy="309240"/>
            </a:xfrm>
            <a:custGeom>
              <a:avLst/>
              <a:gdLst/>
              <a:ahLst/>
              <a:rect l="l" t="t" r="r" b="b"/>
              <a:pathLst>
                <a:path w="168" h="195">
                  <a:moveTo>
                    <a:pt x="0" y="11"/>
                  </a:moveTo>
                  <a:lnTo>
                    <a:pt x="167" y="0"/>
                  </a:lnTo>
                  <a:lnTo>
                    <a:pt x="167" y="177"/>
                  </a:lnTo>
                  <a:lnTo>
                    <a:pt x="0" y="194"/>
                  </a:lnTo>
                  <a:lnTo>
                    <a:pt x="0" y="1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7800" y="2008080"/>
              <a:ext cx="254160" cy="208080"/>
            </a:xfrm>
            <a:custGeom>
              <a:avLst/>
              <a:gdLst/>
              <a:ahLst/>
              <a:rect l="l" t="t" r="r" b="b"/>
              <a:pathLst>
                <a:path w="160" h="131">
                  <a:moveTo>
                    <a:pt x="0" y="6"/>
                  </a:moveTo>
                  <a:lnTo>
                    <a:pt x="159" y="0"/>
                  </a:lnTo>
                  <a:lnTo>
                    <a:pt x="159" y="121"/>
                  </a:lnTo>
                  <a:lnTo>
                    <a:pt x="0" y="130"/>
                  </a:lnTo>
                  <a:lnTo>
                    <a:pt x="0" y="6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30760" y="1852560"/>
              <a:ext cx="539640" cy="30240"/>
            </a:xfrm>
            <a:custGeom>
              <a:avLst/>
              <a:gdLst/>
              <a:ahLst/>
              <a:rect l="l" t="t" r="r" b="b"/>
              <a:pathLst>
                <a:path w="340" h="19">
                  <a:moveTo>
                    <a:pt x="0" y="1"/>
                  </a:moveTo>
                  <a:lnTo>
                    <a:pt x="151" y="18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1"/>
                  </a:lnTo>
                </a:path>
              </a:pathLst>
            </a:custGeom>
            <a:solidFill>
              <a:srgbClr val="515151"/>
            </a:solidFill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30760" y="1852560"/>
              <a:ext cx="241200" cy="749160"/>
            </a:xfrm>
            <a:custGeom>
              <a:avLst/>
              <a:gdLst/>
              <a:ahLst/>
              <a:rect l="l" t="t" r="r" b="b"/>
              <a:pathLst>
                <a:path w="152" h="472">
                  <a:moveTo>
                    <a:pt x="151" y="471"/>
                  </a:moveTo>
                  <a:lnTo>
                    <a:pt x="0" y="358"/>
                  </a:lnTo>
                  <a:lnTo>
                    <a:pt x="0" y="0"/>
                  </a:lnTo>
                  <a:lnTo>
                    <a:pt x="151" y="18"/>
                  </a:lnTo>
                  <a:lnTo>
                    <a:pt x="151" y="471"/>
                  </a:lnTo>
                </a:path>
              </a:pathLst>
            </a:custGeom>
            <a:solidFill>
              <a:srgbClr val="b5b5b5"/>
            </a:solidFill>
            <a:ln cap="rnd" w="12600">
              <a:solidFill>
                <a:srgbClr val="b5b5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43520" y="1878120"/>
              <a:ext cx="28440" cy="723600"/>
            </a:xfrm>
            <a:custGeom>
              <a:avLst/>
              <a:gdLst/>
              <a:ahLst/>
              <a:rect l="l" t="t" r="r" b="b"/>
              <a:pathLst>
                <a:path w="18" h="456">
                  <a:moveTo>
                    <a:pt x="17" y="2"/>
                  </a:moveTo>
                  <a:lnTo>
                    <a:pt x="0" y="0"/>
                  </a:lnTo>
                  <a:lnTo>
                    <a:pt x="0" y="443"/>
                  </a:lnTo>
                  <a:lnTo>
                    <a:pt x="17" y="455"/>
                  </a:lnTo>
                  <a:lnTo>
                    <a:pt x="17" y="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087800" y="2006640"/>
              <a:ext cx="266760" cy="217440"/>
            </a:xfrm>
            <a:custGeom>
              <a:avLst/>
              <a:gdLst/>
              <a:ahLst/>
              <a:rect l="l" t="t" r="r" b="b"/>
              <a:pathLst>
                <a:path w="168" h="137">
                  <a:moveTo>
                    <a:pt x="167" y="0"/>
                  </a:moveTo>
                  <a:lnTo>
                    <a:pt x="167" y="125"/>
                  </a:lnTo>
                  <a:lnTo>
                    <a:pt x="0" y="136"/>
                  </a:lnTo>
                  <a:lnTo>
                    <a:pt x="0" y="130"/>
                  </a:lnTo>
                  <a:lnTo>
                    <a:pt x="159" y="122"/>
                  </a:lnTo>
                  <a:lnTo>
                    <a:pt x="159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87800" y="1967040"/>
              <a:ext cx="266760" cy="42840"/>
            </a:xfrm>
            <a:custGeom>
              <a:avLst/>
              <a:gdLst/>
              <a:ahLst/>
              <a:rect l="l" t="t" r="r" b="b"/>
              <a:pathLst>
                <a:path w="168" h="27">
                  <a:moveTo>
                    <a:pt x="0" y="15"/>
                  </a:moveTo>
                  <a:lnTo>
                    <a:pt x="0" y="19"/>
                  </a:lnTo>
                  <a:lnTo>
                    <a:pt x="39" y="18"/>
                  </a:lnTo>
                  <a:lnTo>
                    <a:pt x="39" y="26"/>
                  </a:lnTo>
                  <a:lnTo>
                    <a:pt x="128" y="23"/>
                  </a:lnTo>
                  <a:lnTo>
                    <a:pt x="128" y="16"/>
                  </a:lnTo>
                  <a:lnTo>
                    <a:pt x="167" y="14"/>
                  </a:lnTo>
                  <a:lnTo>
                    <a:pt x="167" y="8"/>
                  </a:lnTo>
                  <a:lnTo>
                    <a:pt x="128" y="10"/>
                  </a:lnTo>
                  <a:lnTo>
                    <a:pt x="128" y="0"/>
                  </a:lnTo>
                  <a:lnTo>
                    <a:pt x="111" y="1"/>
                  </a:lnTo>
                  <a:lnTo>
                    <a:pt x="32" y="13"/>
                  </a:lnTo>
                  <a:lnTo>
                    <a:pt x="0" y="1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167" y="0"/>
                  </a:moveTo>
                  <a:lnTo>
                    <a:pt x="167" y="17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58" y="1"/>
                  </a:lnTo>
                  <a:lnTo>
                    <a:pt x="167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30760" y="1851120"/>
              <a:ext cx="539640" cy="31680"/>
            </a:xfrm>
            <a:custGeom>
              <a:avLst/>
              <a:gdLst/>
              <a:ahLst/>
              <a:rect l="l" t="t" r="r" b="b"/>
              <a:pathLst>
                <a:path w="340" h="20">
                  <a:moveTo>
                    <a:pt x="0" y="2"/>
                  </a:moveTo>
                  <a:lnTo>
                    <a:pt x="151" y="19"/>
                  </a:lnTo>
                  <a:lnTo>
                    <a:pt x="339" y="14"/>
                  </a:lnTo>
                  <a:lnTo>
                    <a:pt x="181" y="0"/>
                  </a:lnTo>
                  <a:lnTo>
                    <a:pt x="0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68720" y="1874880"/>
              <a:ext cx="301680" cy="726840"/>
            </a:xfrm>
            <a:custGeom>
              <a:avLst/>
              <a:gdLst/>
              <a:ahLst/>
              <a:rect l="l" t="t" r="r" b="b"/>
              <a:pathLst>
                <a:path w="190" h="458">
                  <a:moveTo>
                    <a:pt x="0" y="5"/>
                  </a:moveTo>
                  <a:lnTo>
                    <a:pt x="0" y="457"/>
                  </a:lnTo>
                  <a:lnTo>
                    <a:pt x="189" y="437"/>
                  </a:lnTo>
                  <a:lnTo>
                    <a:pt x="189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30760" y="1852560"/>
              <a:ext cx="239760" cy="749160"/>
            </a:xfrm>
            <a:custGeom>
              <a:avLst/>
              <a:gdLst/>
              <a:ahLst/>
              <a:rect l="l" t="t" r="r" b="b"/>
              <a:pathLst>
                <a:path w="151" h="472">
                  <a:moveTo>
                    <a:pt x="0" y="0"/>
                  </a:moveTo>
                  <a:lnTo>
                    <a:pt x="0" y="358"/>
                  </a:lnTo>
                  <a:lnTo>
                    <a:pt x="150" y="471"/>
                  </a:lnTo>
                  <a:lnTo>
                    <a:pt x="150" y="18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43520" y="187956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43520" y="18889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9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43520" y="194148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87800" y="1901880"/>
              <a:ext cx="266760" cy="36360"/>
            </a:xfrm>
            <a:custGeom>
              <a:avLst/>
              <a:gdLst/>
              <a:ahLst/>
              <a:rect l="l" t="t" r="r" b="b"/>
              <a:pathLst>
                <a:path w="168" h="23">
                  <a:moveTo>
                    <a:pt x="0" y="5"/>
                  </a:moveTo>
                  <a:lnTo>
                    <a:pt x="0" y="22"/>
                  </a:lnTo>
                  <a:lnTo>
                    <a:pt x="167" y="17"/>
                  </a:lnTo>
                  <a:lnTo>
                    <a:pt x="167" y="0"/>
                  </a:lnTo>
                  <a:lnTo>
                    <a:pt x="0" y="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43520" y="195732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43520" y="200664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43520" y="2205000"/>
              <a:ext cx="326880" cy="2700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205" y="0"/>
                  </a:moveTo>
                  <a:lnTo>
                    <a:pt x="16" y="16"/>
                  </a:lnTo>
                  <a:lnTo>
                    <a:pt x="0" y="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87800" y="201780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53120" y="2008080"/>
              <a:ext cx="0" cy="196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87800" y="2008080"/>
              <a:ext cx="254160" cy="206280"/>
            </a:xfrm>
            <a:custGeom>
              <a:avLst/>
              <a:gdLst/>
              <a:ahLst/>
              <a:rect l="l" t="t" r="r" b="b"/>
              <a:pathLst>
                <a:path w="160" h="130">
                  <a:moveTo>
                    <a:pt x="159" y="0"/>
                  </a:moveTo>
                  <a:lnTo>
                    <a:pt x="159" y="121"/>
                  </a:lnTo>
                  <a:lnTo>
                    <a:pt x="0" y="12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0160" y="2200320"/>
              <a:ext cx="1296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087440" y="2073240"/>
              <a:ext cx="25236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087440" y="2139840"/>
              <a:ext cx="252360" cy="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43520" y="2257560"/>
              <a:ext cx="326880" cy="26640"/>
            </a:xfrm>
            <a:custGeom>
              <a:avLst/>
              <a:gdLst/>
              <a:ahLst/>
              <a:rect l="l" t="t" r="r" b="b"/>
              <a:pathLst>
                <a:path w="206" h="17">
                  <a:moveTo>
                    <a:pt x="0" y="3"/>
                  </a:moveTo>
                  <a:lnTo>
                    <a:pt x="16" y="16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43520" y="2536920"/>
              <a:ext cx="326880" cy="33120"/>
            </a:xfrm>
            <a:custGeom>
              <a:avLst/>
              <a:gdLst/>
              <a:ahLst/>
              <a:rect l="l" t="t" r="r" b="b"/>
              <a:pathLst>
                <a:path w="206" h="21">
                  <a:moveTo>
                    <a:pt x="0" y="7"/>
                  </a:moveTo>
                  <a:lnTo>
                    <a:pt x="16" y="20"/>
                  </a:lnTo>
                  <a:lnTo>
                    <a:pt x="20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87800" y="22734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53120" y="2257560"/>
              <a:ext cx="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87800" y="2517840"/>
              <a:ext cx="266760" cy="3312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4"/>
                  </a:lnTo>
                  <a:lnTo>
                    <a:pt x="167" y="0"/>
                  </a:lnTo>
                  <a:lnTo>
                    <a:pt x="0" y="17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087800" y="2504880"/>
              <a:ext cx="266760" cy="33480"/>
            </a:xfrm>
            <a:custGeom>
              <a:avLst/>
              <a:gdLst/>
              <a:ahLst/>
              <a:rect l="l" t="t" r="r" b="b"/>
              <a:pathLst>
                <a:path w="168" h="21">
                  <a:moveTo>
                    <a:pt x="0" y="20"/>
                  </a:moveTo>
                  <a:lnTo>
                    <a:pt x="167" y="3"/>
                  </a:lnTo>
                  <a:lnTo>
                    <a:pt x="167" y="0"/>
                  </a:lnTo>
                  <a:lnTo>
                    <a:pt x="0" y="16"/>
                  </a:lnTo>
                  <a:lnTo>
                    <a:pt x="0" y="2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87800" y="2494080"/>
              <a:ext cx="266760" cy="31680"/>
            </a:xfrm>
            <a:custGeom>
              <a:avLst/>
              <a:gdLst/>
              <a:ahLst/>
              <a:rect l="l" t="t" r="r" b="b"/>
              <a:pathLst>
                <a:path w="168" h="20">
                  <a:moveTo>
                    <a:pt x="167" y="3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87800" y="2481120"/>
              <a:ext cx="266760" cy="28800"/>
            </a:xfrm>
            <a:custGeom>
              <a:avLst/>
              <a:gdLst/>
              <a:ahLst/>
              <a:rect l="l" t="t" r="r" b="b"/>
              <a:pathLst>
                <a:path w="168" h="18">
                  <a:moveTo>
                    <a:pt x="167" y="3"/>
                  </a:moveTo>
                  <a:lnTo>
                    <a:pt x="0" y="17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2467080"/>
              <a:ext cx="266760" cy="29880"/>
            </a:xfrm>
            <a:custGeom>
              <a:avLst/>
              <a:gdLst/>
              <a:ahLst/>
              <a:rect l="l" t="t" r="r" b="b"/>
              <a:pathLst>
                <a:path w="168" h="19">
                  <a:moveTo>
                    <a:pt x="167" y="3"/>
                  </a:moveTo>
                  <a:lnTo>
                    <a:pt x="0" y="18"/>
                  </a:lnTo>
                  <a:lnTo>
                    <a:pt x="0" y="14"/>
                  </a:lnTo>
                  <a:lnTo>
                    <a:pt x="167" y="0"/>
                  </a:lnTo>
                  <a:lnTo>
                    <a:pt x="167" y="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087800" y="1903320"/>
              <a:ext cx="254160" cy="33480"/>
            </a:xfrm>
            <a:custGeom>
              <a:avLst/>
              <a:gdLst/>
              <a:ahLst/>
              <a:rect l="l" t="t" r="r" b="b"/>
              <a:pathLst>
                <a:path w="160" h="21">
                  <a:moveTo>
                    <a:pt x="159" y="0"/>
                  </a:moveTo>
                  <a:lnTo>
                    <a:pt x="159" y="15"/>
                  </a:lnTo>
                  <a:lnTo>
                    <a:pt x="0" y="20"/>
                  </a:lnTo>
                  <a:lnTo>
                    <a:pt x="1" y="5"/>
                  </a:lnTo>
                  <a:lnTo>
                    <a:pt x="159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40160" y="1927080"/>
              <a:ext cx="129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49720" y="1967040"/>
              <a:ext cx="142920" cy="42840"/>
            </a:xfrm>
            <a:custGeom>
              <a:avLst/>
              <a:gdLst/>
              <a:ahLst/>
              <a:rect l="l" t="t" r="r" b="b"/>
              <a:pathLst>
                <a:path w="90" h="27">
                  <a:moveTo>
                    <a:pt x="0" y="26"/>
                  </a:moveTo>
                  <a:lnTo>
                    <a:pt x="0" y="3"/>
                  </a:lnTo>
                  <a:lnTo>
                    <a:pt x="89" y="0"/>
                  </a:lnTo>
                  <a:lnTo>
                    <a:pt x="89" y="23"/>
                  </a:lnTo>
                  <a:lnTo>
                    <a:pt x="0" y="26"/>
                  </a:lnTo>
                </a:path>
              </a:pathLst>
            </a:custGeom>
            <a:noFill/>
            <a:ln cap="rnd" w="12600">
              <a:solidFill>
                <a:srgbClr val="5151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87800" y="1967040"/>
              <a:ext cx="266760" cy="37800"/>
            </a:xfrm>
            <a:custGeom>
              <a:avLst/>
              <a:gdLst/>
              <a:ahLst/>
              <a:rect l="l" t="t" r="r" b="b"/>
              <a:pathLst>
                <a:path w="168" h="24">
                  <a:moveTo>
                    <a:pt x="113" y="8"/>
                  </a:moveTo>
                  <a:lnTo>
                    <a:pt x="167" y="6"/>
                  </a:lnTo>
                  <a:lnTo>
                    <a:pt x="167" y="14"/>
                  </a:lnTo>
                  <a:lnTo>
                    <a:pt x="159" y="13"/>
                  </a:lnTo>
                  <a:lnTo>
                    <a:pt x="113" y="14"/>
                  </a:lnTo>
                  <a:lnTo>
                    <a:pt x="113" y="20"/>
                  </a:lnTo>
                  <a:lnTo>
                    <a:pt x="39" y="23"/>
                  </a:lnTo>
                  <a:lnTo>
                    <a:pt x="39" y="18"/>
                  </a:lnTo>
                  <a:lnTo>
                    <a:pt x="32" y="17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39" y="10"/>
                  </a:lnTo>
                  <a:lnTo>
                    <a:pt x="39" y="3"/>
                  </a:lnTo>
                  <a:lnTo>
                    <a:pt x="128" y="0"/>
                  </a:lnTo>
                  <a:lnTo>
                    <a:pt x="113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87800" y="1984320"/>
              <a:ext cx="204840" cy="27000"/>
            </a:xfrm>
            <a:custGeom>
              <a:avLst/>
              <a:gdLst/>
              <a:ahLst/>
              <a:rect l="l" t="t" r="r" b="b"/>
              <a:pathLst>
                <a:path w="129" h="17">
                  <a:moveTo>
                    <a:pt x="0" y="0"/>
                  </a:moveTo>
                  <a:lnTo>
                    <a:pt x="0" y="8"/>
                  </a:lnTo>
                  <a:lnTo>
                    <a:pt x="38" y="7"/>
                  </a:lnTo>
                  <a:lnTo>
                    <a:pt x="38" y="16"/>
                  </a:lnTo>
                  <a:lnTo>
                    <a:pt x="128" y="12"/>
                  </a:lnTo>
                  <a:lnTo>
                    <a:pt x="128" y="4"/>
                  </a:lnTo>
                  <a:lnTo>
                    <a:pt x="112" y="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291200" y="1987560"/>
              <a:ext cx="619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91200" y="1967040"/>
              <a:ext cx="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00760" y="1919160"/>
              <a:ext cx="2664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3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9"/>
                  </a:lnTo>
                  <a:lnTo>
                    <a:pt x="2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13712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6" y="6"/>
                  </a:lnTo>
                  <a:lnTo>
                    <a:pt x="13" y="3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2" y="9"/>
                  </a:lnTo>
                  <a:lnTo>
                    <a:pt x="2" y="12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2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7348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10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2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11640" y="19177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5"/>
                  </a:moveTo>
                  <a:lnTo>
                    <a:pt x="16" y="5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16"/>
                  </a:lnTo>
                  <a:lnTo>
                    <a:pt x="5" y="16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3" y="16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49800" y="191592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2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2" y="12"/>
                  </a:lnTo>
                  <a:lnTo>
                    <a:pt x="16" y="8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28472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6"/>
                  </a:moveTo>
                  <a:lnTo>
                    <a:pt x="13" y="6"/>
                  </a:lnTo>
                  <a:lnTo>
                    <a:pt x="13" y="3"/>
                  </a:lnTo>
                  <a:lnTo>
                    <a:pt x="10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5" y="12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2"/>
                  </a:lnTo>
                  <a:lnTo>
                    <a:pt x="13" y="12"/>
                  </a:lnTo>
                  <a:lnTo>
                    <a:pt x="13" y="9"/>
                  </a:lnTo>
                  <a:lnTo>
                    <a:pt x="16" y="9"/>
                  </a:lnTo>
                  <a:lnTo>
                    <a:pt x="16" y="6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2880" y="191304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8"/>
                  </a:moveTo>
                  <a:lnTo>
                    <a:pt x="16" y="8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9" y="0"/>
                  </a:lnTo>
                  <a:lnTo>
                    <a:pt x="6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6" y="8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560" y="2008080"/>
              <a:ext cx="27000" cy="193680"/>
            </a:xfrm>
            <a:custGeom>
              <a:avLst/>
              <a:gdLst/>
              <a:ahLst/>
              <a:rect l="l" t="t" r="r" b="b"/>
              <a:pathLst>
                <a:path w="17" h="122">
                  <a:moveTo>
                    <a:pt x="0" y="0"/>
                  </a:moveTo>
                  <a:lnTo>
                    <a:pt x="0" y="42"/>
                  </a:lnTo>
                  <a:lnTo>
                    <a:pt x="12" y="42"/>
                  </a:lnTo>
                  <a:lnTo>
                    <a:pt x="0" y="47"/>
                  </a:lnTo>
                  <a:lnTo>
                    <a:pt x="0" y="84"/>
                  </a:lnTo>
                  <a:lnTo>
                    <a:pt x="12" y="84"/>
                  </a:lnTo>
                  <a:lnTo>
                    <a:pt x="0" y="89"/>
                  </a:lnTo>
                  <a:lnTo>
                    <a:pt x="0" y="121"/>
                  </a:lnTo>
                  <a:lnTo>
                    <a:pt x="16" y="121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68960" y="2498760"/>
              <a:ext cx="152280" cy="7128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0" y="44"/>
                  </a:moveTo>
                  <a:lnTo>
                    <a:pt x="95" y="35"/>
                  </a:lnTo>
                  <a:lnTo>
                    <a:pt x="0" y="0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 flipV="1">
            <a:off x="2573280" y="2614320"/>
            <a:ext cx="1420920" cy="108900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32920" y="1727280"/>
            <a:ext cx="16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D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1992240"/>
            <a:ext cx="30477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20467"/>
              <a:gd name="adj5" fmla="val 319745"/>
              <a:gd name="adj6" fmla="val -39162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SS-Kerb5 Token formats (RFC 196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133520" y="4751280"/>
            <a:ext cx="1006560" cy="368280"/>
          </a:xfrm>
          <a:prstGeom prst="rect">
            <a:avLst/>
          </a:prstGeom>
          <a:gradFill rotWithShape="0">
            <a:gsLst>
              <a:gs pos="0">
                <a:srgbClr val="465e2f"/>
              </a:gs>
              <a:gs pos="100000">
                <a:srgbClr val="99cc66"/>
              </a:gs>
            </a:gsLst>
            <a:lin ang="5400000"/>
          </a:gra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6459480" y="3429000"/>
            <a:ext cx="878040" cy="9064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798120" y="6248520"/>
            <a:ext cx="78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 SSPI - Security Service Provider Interface, GSS - Global Security Service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571E-EDFA-4E02-98F7-D9310A359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Authentication Servi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as part of MIT project Ath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implements an authentication procedure which verifies identity of communicatio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 algorithm, symmetric key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server (Kerberos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(Ticket Granting Ser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proves his identity by presenting an encrypted, service-specific ticket (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when issuing a 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server and Ticket Granting Service (TGS) are assumed to be secure (trusted hos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0BA0-D070-4F4A-91EE-C7653FA6E7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rberos requires three main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identifies himself against Kerberos Server (Active Directory), it receives a master ticket (the Ticket Granting Ticket - TG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requests service-specific tickets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e his identity with the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uses service-specific ticket to contac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is transparent from user‘s point of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login program acquires TG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lient) Applications transparently acquire service-specific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-issued tickets and TGT have a default lifetime of eight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89A19-B67B-4101-9275-C008BABCAE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principle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4052520"/>
            <a:ext cx="6134040" cy="21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KDC: c, tg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{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t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-&gt; TGS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s,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GS -&gt; Client: {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tg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29480" indent="-4294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-&gt; Server: {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{T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}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D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09880" y="1981080"/>
            <a:ext cx="1143000" cy="4572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3124080"/>
            <a:ext cx="1143000" cy="4572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3505320"/>
            <a:ext cx="1143000" cy="457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143000" y="24379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295280" y="24382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676520" y="2286000"/>
            <a:ext cx="213336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1828440" y="2362320"/>
            <a:ext cx="213372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52480" y="3429000"/>
            <a:ext cx="236232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3808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371600" y="27432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362320" y="251460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00400" y="3352680"/>
            <a:ext cx="228600" cy="2286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33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81080" y="2209680"/>
            <a:ext cx="1752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14960" y="1905120"/>
            <a:ext cx="886320" cy="459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Typically</a:t>
            </a:r>
            <a:br>
              <a:rPr sz="1200"/>
            </a:br>
            <a:r>
              <a:rPr b="0" lang="de-DE" sz="1200" spc="-1" strike="noStrike">
                <a:solidFill>
                  <a:srgbClr val="ffffff"/>
                </a:solidFill>
                <a:latin typeface="Arial"/>
              </a:rPr>
              <a:t>co-loc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492520" y="1828800"/>
            <a:ext cx="3256200" cy="3061800"/>
          </a:xfrm>
          <a:prstGeom prst="rect">
            <a:avLst/>
          </a:prstGeom>
          <a:solidFill>
            <a:srgbClr val="fbf3a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client‘s secret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: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omm.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between client and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tg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 tgs: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for T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:            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key for client/service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              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{T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,s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}K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s: 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encrypted ticket </a:t>
            </a:r>
            <a:br>
              <a:rPr sz="1800"/>
            </a:b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for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c:</a:t>
            </a:r>
            <a:r>
              <a:rPr b="0" lang="de-DE" sz="1800" spc="-1" strike="noStrike" baseline="-25000">
                <a:solidFill>
                  <a:srgbClr val="000033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33"/>
                </a:solidFill>
                <a:latin typeface="Arial"/>
              </a:rPr>
              <a:t>authentication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EC71-DD51-4A50-ADFE-125013FE64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s and Authentication info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beros tickets contain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fetime of the ti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the host running the requested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ssion key for client/serve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ckets are encrypted with the server‘s private key (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(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contains the following da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ress of work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 st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entication info is encrypted with the session key K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c,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CAFDC-8BF1-469F-9EA2-95A992D4F0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beros Version 5 -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supported encryption algorithms through Crypto-API foun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s carry info about encryption algorithm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re-used for different encryption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addresses may have arbitrary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pecify all supported protocols/addresses in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data format and encryption are standard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N.1 format (ISO 8824), no special format for multi-by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ryption based on (ISO 8825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ontain plaintext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ay support multiple personalities, actual role is chosen on plaintext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carry starting time and expiration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B8AE-7D38-4F44-A5C7-4FCA052FBF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icket Characteristic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DC returns special tickets on initial ticket ex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an only changed with those special tick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ewable tickets may carry two expiration d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valid after first but before second 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ckets may be post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esting for batch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ization data fie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DC copies authorization info from TGT into every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ly generated ti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Kerberos supports public/private key for initial authentication (to obtain TGT via user-supplied private ke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90DCD-844D-426F-A33D-637F67B100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8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ystem Components (from pp. 48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n (from pp. 53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hn T.Kohl, B.Clifford Neumann, Theodore Y.Ts’o, The Evolution of the Kerberos Authentication Service, Proceedings of Spring 1991 EurOpen Conference, Tromsø, Nor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Introduction to DC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ntice-Hall, 1992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700"/>
              </a:spcBef>
              <a:spcAft>
                <a:spcPts val="700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Open Software Foundation, DCE User’sGuide and Reference, Prentice-Hall, 199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C507F-152B-4143-9EEC-CDEC0A79C86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se – Security Reference Mon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inc\se.h – additional structure defin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WRK does not include sources for security processes or network security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20253-4C44-430C-95FC-D8B8EC7A9BBD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7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curity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onents of the Security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Lo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beros Protocol Principles / Active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23BC-5FDA-426F-AFFE-AA49FE10AA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ecurity Mechanis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ssions can be applied to all shareable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ing the NTFS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not the FAT fil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rypted File System protects data while OS is off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-authorized physic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support for Kerberos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c Key infrastructure to pass digital certific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 Security to protect sensitive data traveling across the w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ypto-APIs built into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shing and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3240-CD12-4049-86D8-6E41778E3E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three hearts of Windows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 (LSA)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local user-mod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local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SA - on domain contro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user authentication on networked mach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urity Reference Monito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rt of object access prot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B697-7409-4C76-A0E5-A8A170813C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17220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ardware interfaces (buses, I/O devices, interrupts,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rval timers, DMA, memory cache control, etc., et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733920"/>
            <a:ext cx="8153640" cy="30456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 Service Dispatch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86360" y="6613560"/>
            <a:ext cx="41576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e9900"/>
                </a:solidFill>
                <a:latin typeface="Century Gothic"/>
              </a:rPr>
              <a:t>Original copyright by Microsoft Corporation.  Used by permiss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971800"/>
            <a:ext cx="1143000" cy="533520"/>
          </a:xfrm>
          <a:prstGeom prst="rect">
            <a:avLst/>
          </a:prstGeom>
          <a:solidFill>
            <a:srgbClr val="99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320" y="2066760"/>
            <a:ext cx="942840" cy="2049120"/>
            <a:chOff x="76320" y="2066760"/>
            <a:chExt cx="942840" cy="2049120"/>
          </a:xfrm>
        </p:grpSpPr>
        <p:sp>
          <p:nvSpPr>
            <p:cNvPr id="102" name=""/>
            <p:cNvSpPr/>
            <p:nvPr/>
          </p:nvSpPr>
          <p:spPr>
            <a:xfrm>
              <a:off x="152280" y="2066760"/>
              <a:ext cx="8668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s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320" y="3597120"/>
              <a:ext cx="8665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Kerne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o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28600" y="2819520"/>
            <a:ext cx="8686800" cy="609480"/>
          </a:xfrm>
          <a:custGeom>
            <a:avLst/>
            <a:gdLst/>
            <a:ahLst/>
            <a:rect l="l" t="t" r="r" b="b"/>
            <a:pathLst>
              <a:path w="5436" h="468">
                <a:moveTo>
                  <a:pt x="5436" y="468"/>
                </a:moveTo>
                <a:lnTo>
                  <a:pt x="792" y="468"/>
                </a:lnTo>
                <a:lnTo>
                  <a:pt x="792" y="0"/>
                </a:lnTo>
                <a:lnTo>
                  <a:pt x="0" y="0"/>
                </a:lnTo>
              </a:path>
            </a:pathLst>
          </a:custGeom>
          <a:noFill/>
          <a:ln cap="rnd" w="38160">
            <a:solidFill>
              <a:srgbClr val="00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3505320"/>
            <a:ext cx="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520" y="4343400"/>
            <a:ext cx="1602000" cy="3961440"/>
            <a:chOff x="74520" y="4343400"/>
            <a:chExt cx="1602000" cy="3961440"/>
          </a:xfrm>
        </p:grpSpPr>
        <p:sp>
          <p:nvSpPr>
            <p:cNvPr id="107" name=""/>
            <p:cNvSpPr/>
            <p:nvPr/>
          </p:nvSpPr>
          <p:spPr>
            <a:xfrm>
              <a:off x="74520" y="6292800"/>
              <a:ext cx="1602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tosKrnl.Ex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 rot="5400000">
              <a:off x="-1218960" y="5790600"/>
              <a:ext cx="396144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7432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4038480"/>
            <a:ext cx="1067040" cy="1524240"/>
          </a:xfrm>
          <a:prstGeom prst="rect">
            <a:avLst/>
          </a:prstGeom>
          <a:solidFill>
            <a:srgbClr val="9aa3ad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US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D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ystem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Cach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343400"/>
            <a:ext cx="121932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/O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4648320"/>
            <a:ext cx="1067040" cy="121896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4724280"/>
            <a:ext cx="990720" cy="114300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4800600"/>
            <a:ext cx="914400" cy="106668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9144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evice 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File Sy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343400"/>
            <a:ext cx="60984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ug 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lay 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 vert="eaVert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g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ecurity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Reference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4343400"/>
            <a:ext cx="60948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irtual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sses</a:t>
            </a:r>
            <a:br>
              <a:rPr sz="1400"/>
            </a:b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hrea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4343400"/>
            <a:ext cx="685800" cy="122544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4876920"/>
            <a:ext cx="914400" cy="12952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91440" bIns="46800" anchor="t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Graph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3920" y="5562720"/>
            <a:ext cx="7410600" cy="304560"/>
          </a:xfrm>
          <a:prstGeom prst="rect">
            <a:avLst/>
          </a:prstGeom>
          <a:solidFill>
            <a:srgbClr val="f6bf6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5867280"/>
            <a:ext cx="7925040" cy="304920"/>
          </a:xfrm>
          <a:prstGeom prst="rect">
            <a:avLst/>
          </a:prstGeom>
          <a:solidFill>
            <a:srgbClr val="cc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Hardware Abstraction Layer (H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4038480"/>
            <a:ext cx="7086600" cy="3049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552600" indent="-552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kernel mode callable interface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4343400"/>
            <a:ext cx="685800" cy="1219320"/>
          </a:xfrm>
          <a:prstGeom prst="rect">
            <a:avLst/>
          </a:prstGeom>
          <a:solidFill>
            <a:srgbClr val="99cc66"/>
          </a:solidFill>
          <a:ln w="1260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nfigura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ion Mg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(registry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520" y="2948040"/>
            <a:ext cx="8734320" cy="2905200"/>
          </a:xfrm>
          <a:custGeom>
            <a:avLst/>
            <a:gdLst/>
            <a:ahLst/>
            <a:rect l="l" t="t" r="r" b="b"/>
            <a:pathLst>
              <a:path w="5502" h="1830">
                <a:moveTo>
                  <a:pt x="5492" y="487"/>
                </a:moveTo>
                <a:lnTo>
                  <a:pt x="5502" y="685"/>
                </a:lnTo>
                <a:lnTo>
                  <a:pt x="4836" y="685"/>
                </a:lnTo>
                <a:lnTo>
                  <a:pt x="4836" y="1599"/>
                </a:lnTo>
                <a:lnTo>
                  <a:pt x="4793" y="1637"/>
                </a:lnTo>
                <a:lnTo>
                  <a:pt x="5194" y="1639"/>
                </a:lnTo>
                <a:lnTo>
                  <a:pt x="5214" y="1827"/>
                </a:lnTo>
                <a:lnTo>
                  <a:pt x="523" y="1830"/>
                </a:lnTo>
                <a:lnTo>
                  <a:pt x="523" y="1638"/>
                </a:lnTo>
                <a:lnTo>
                  <a:pt x="1002" y="1637"/>
                </a:lnTo>
                <a:lnTo>
                  <a:pt x="1002" y="1061"/>
                </a:lnTo>
                <a:lnTo>
                  <a:pt x="357" y="1063"/>
                </a:lnTo>
                <a:lnTo>
                  <a:pt x="357" y="348"/>
                </a:lnTo>
                <a:lnTo>
                  <a:pt x="0" y="338"/>
                </a:lnTo>
                <a:lnTo>
                  <a:pt x="0" y="0"/>
                </a:lnTo>
                <a:lnTo>
                  <a:pt x="715" y="10"/>
                </a:lnTo>
                <a:lnTo>
                  <a:pt x="715" y="486"/>
                </a:lnTo>
                <a:lnTo>
                  <a:pt x="5492" y="487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6360" y="695160"/>
            <a:ext cx="1295280" cy="60984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436e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9040" y="97848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16000" y="2492280"/>
            <a:ext cx="0" cy="125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60360" y="2494080"/>
            <a:ext cx="75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305000"/>
            <a:ext cx="0" cy="118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15920"/>
            <a:ext cx="2556000" cy="12970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03640" y="134136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79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03640" y="18446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231300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71640" y="263700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0000" y="148428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1871280" y="125424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58920" y="195264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1089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27640" y="123336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932360" y="2276280"/>
            <a:ext cx="0" cy="208908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84464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64000" y="238428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148360" y="198900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5219280" y="152100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96360" y="1700280"/>
            <a:ext cx="0" cy="2016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E0A8-360A-44BA-9494-20121ED8B6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776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Security Auth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-mode process (\Windows\System32\Lsass.exe) that implements policies (e.g. password, logon), authentication, and sending audit records to the security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SASS policy database: registry key HKLM\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380700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Win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64800" y="4089960"/>
            <a:ext cx="892440" cy="2602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GI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57400" y="4056120"/>
            <a:ext cx="2556000" cy="136836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65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etLog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9400" y="445284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ctive Direc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65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SA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89400" y="4956120"/>
            <a:ext cx="1116000" cy="40968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AM Serv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7400" y="5424480"/>
            <a:ext cx="1729080" cy="32400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MSVC1_0.d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7400" y="5748480"/>
            <a:ext cx="1729080" cy="323640"/>
          </a:xfrm>
          <a:prstGeom prst="rect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Kerberos.d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25760" y="4595760"/>
            <a:ext cx="720720" cy="79236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LSA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2057040" y="4365720"/>
            <a:ext cx="863640" cy="3031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344680" y="5064120"/>
            <a:ext cx="6127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4200480"/>
            <a:ext cx="1295280" cy="609480"/>
          </a:xfrm>
          <a:prstGeom prst="rect">
            <a:avLst/>
          </a:prstGeom>
          <a:solidFill>
            <a:srgbClr val="b11d2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91440" bIns="92160" anchor="ctr" anchorCtr="1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Event Logg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13400" y="4344840"/>
            <a:ext cx="1224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702480" y="4956120"/>
            <a:ext cx="90000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Active</a:t>
            </a:r>
            <a:br>
              <a:rPr sz="1600"/>
            </a:b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49760" y="5495760"/>
            <a:ext cx="900360" cy="828720"/>
          </a:xfrm>
          <a:prstGeom prst="can">
            <a:avLst>
              <a:gd name="adj" fmla="val 25000"/>
            </a:avLst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33"/>
                </a:solidFill>
                <a:latin typeface="Arial"/>
              </a:rPr>
              <a:t>SA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334120" y="5100480"/>
            <a:ext cx="576000" cy="43344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5405040" y="4632480"/>
            <a:ext cx="1297080" cy="612720"/>
          </a:xfrm>
          <a:prstGeom prst="line">
            <a:avLst/>
          </a:prstGeom>
          <a:ln w="2844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2109-83EC-45EE-B216-17C56BF5909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25000"/>
            <a:ext cx="845820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et of subroutines (\Windows\System32\Samsrv.dll ) responsible for managing the database that contains the usernames and groups defined on the local mach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database: A database that contains the defined local users and groups, along with their passwords and other attributes. This database is stored in the registry under HKLM\SA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ssword crackers attack the local user account password hashes stored in the S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: look at SAM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 Lsass.exe process properties – click on services t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Find DLL – search for Samsrv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8CAE-A297-4636-993F-CA07151D1C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SASS Componen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rectory service that contains a database that stores information about objects in a dom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collection of computers and their associated security groups that are managed as a single 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ctive Directory server, implemented as a service, \Windows\System32\Ntdsa.dll, that runs in the Lsa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entication packag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LLs that run in the context of the Lsass process and that implement Windows authentication polic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Man: \Windows\System32\Msvc1_0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rberos: \Windows\System32\Kerberos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gotiate: uses LanMan or Kerberos, depending on which is most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3E36-CA35-424B-BC7C-7CFE60D763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3:34:45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39:33Z</dcterms:modified>
  <cp:revision>27</cp:revision>
  <dc:subject>Windows Operating Systems Internals Course</dc:subject>
  <dc:title>Unit OS7: Windows Security Components and Concepts</dc:title>
</cp:coreProperties>
</file>